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449-C610-47B1-9D74-38418858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723-2401-4895-AA11-F5A10B7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5B2-AF37-47C2-A934-91228985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A6B-97CB-494C-9DA5-4B112EBA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50F-175F-4609-B74A-2D54869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B3B-DA1E-4824-8E5C-74C707C1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B1B-B072-4183-BB7A-6CD2A101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BFE-93A2-45C9-A04D-A3F6784F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1A-EFA7-4B20-8E9D-04628CE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3D5-6AFA-401C-ADCE-CDAC743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6A8-D1BA-427D-A1BF-8838B55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2AB-DF05-41FD-BD5E-626B986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A1A-AEE1-4BFD-8B47-9772005B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mework #1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: pg. 42-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: pg. 259-2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What is the difference between observational learning and disinhib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How is disinhibition used to extinguish phobi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ich of the three learning theories do you understand the best?  The least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ck up a blank half sheet of paper from the front table. Complete the Warm-Up on this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olence on television leads to aggressive behavior by the children and teenagers who watch the programs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quote above and if you agree or disagree with the statement.  Expl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gree or disagree and be prepared to share you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ildren see, children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dividual observes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i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havior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inhib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e someone else engage in something “bad” without being punished.  Learn it is easier to do that behavio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the short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he following two questions on a separate sheet of paper with your partn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hat you know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plain how the situation at Glenbrook North may have an impact on other high school studen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ow does the incident at Glenbrook North exemplif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inhib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enbrook Nor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worst stereotype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#13/Grad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on half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perant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inforcement/Punishment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When you provide negative reinforcement, it usually resul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Weakening a behavior you want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Strengthening a behavior you want strengthen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Do people usually look forward to receiving negative reinforcement? Wh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eld a position of authority (like a teacher or job manager) would you supply positive reinforcement to those you might manage in the future? 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following two statements.  Decide which is negative reinforcement and which is pun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f you clean your room, you will no longer have to be gr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Because you did not clean your room, you will be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sitive reinforc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ing something desirable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oney for good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Negative reinfor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aking away something you don’t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aking aspirin to get rid of a head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Beeping when you leave the head lights on. You must turn off the lights to stop the bee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Unpleasant consequence whi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behavior to occur ag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04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1911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 up homework #14, no more homework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k up your warm-up from last class on the front table. (If you did not do it, do it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 from 5/13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olence on television leads to aggressive behavior by the children and teenagers who watch the program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quote above and if you agree or disagree with the statement.  Expl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gree or disagree and be prepared to share you answ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aby stuff her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uesday 5/19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Learning: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ividual observ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i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ehavior of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(People of higher status have more influence on other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373392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839440" cy="55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ndura and Bobo Doll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2:39Z</dcterms:created>
  <dc:creator>Deborah Strnad</dc:creator>
  <dc:description/>
  <dc:language>en-US</dc:language>
  <cp:lastModifiedBy>Deborah Strnad</cp:lastModifiedBy>
  <dcterms:modified xsi:type="dcterms:W3CDTF">2009-05-15T17:56:43Z</dcterms:modified>
  <cp:revision>65</cp:revision>
  <dc:subject/>
  <dc:title>Learning</dc:title>
</cp:coreProperties>
</file>